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2D21-ADC0-4E83-9BBB-B21E5C11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B987-B443-420D-BCD1-F4FA537A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9C23-DA0D-4D92-87E4-2CA031FA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BBC-A82C-4A55-B20E-243752A1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00D-4B43-4FC8-BE86-6B0FDF11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6C3-8C39-415B-99B5-376147AD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3F66-F4F3-4CBB-84A0-45C54089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A7E-C414-4014-82D3-F084CB2E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09D-CF78-4DC8-8D07-BF49E7CB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3B59-CF08-4148-A5CB-89D311A7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7D2-9B09-4E80-9298-3D14537C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026-FC7E-491D-834F-7C3ADBBF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E418-EC68-4019-AECF-831507745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2560" y="0"/>
            <a:ext cx="8453880" cy="6858000"/>
            <a:chOff x="322560" y="0"/>
            <a:chExt cx="8453880" cy="6858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29525" t="11279" r="26369" b="1483"/>
            <a:stretch/>
          </p:blipFill>
          <p:spPr>
            <a:xfrm>
              <a:off x="2484360" y="0"/>
              <a:ext cx="4786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7130880" y="83664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iginal aliqu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142400" y="312408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ssage 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83080" y="5003640"/>
              <a:ext cx="159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ssage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highest passag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d in the stud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45800" y="189000"/>
              <a:ext cx="114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PE-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2560" y="2997360"/>
              <a:ext cx="13298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- Ameloge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- D19S43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- D3S15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- D8S11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- TH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-V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D21S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-F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- D16S53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-D18S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-D2S13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96880" y="857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41240" y="930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70040" y="19382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5040" y="8510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08120" y="7650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,6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28680" y="1577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36720" y="1628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00160" y="836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01080" y="2075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32840" y="13413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322560" y="-27000"/>
            <a:ext cx="8821440" cy="6912000"/>
            <a:chOff x="322560" y="-27000"/>
            <a:chExt cx="8821440" cy="6912000"/>
          </a:xfrm>
        </p:grpSpPr>
        <p:pic>
          <p:nvPicPr>
            <p:cNvPr id="59" name="" descr=""/>
            <p:cNvPicPr/>
            <p:nvPr/>
          </p:nvPicPr>
          <p:blipFill>
            <a:blip r:embed="rId1"/>
            <a:srcRect l="29329" t="9257" r="26369" b="3123"/>
            <a:stretch/>
          </p:blipFill>
          <p:spPr>
            <a:xfrm>
              <a:off x="2556000" y="-27000"/>
              <a:ext cx="4822560" cy="691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097640" y="182520"/>
              <a:ext cx="10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MVE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3840" y="907920"/>
              <a:ext cx="137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iginal aliquo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94600" y="3484440"/>
              <a:ext cx="11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ssage 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6000" y="5140440"/>
              <a:ext cx="1908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ssage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highest passag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sed in the study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2560" y="2997360"/>
              <a:ext cx="13298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- Ameloge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- D19S43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- D3S135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- D8S117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- TH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-V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D21S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-F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- D16S53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-D18S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-D2S133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68160" y="930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6320" y="857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28520" y="1793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17600" y="15048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85800" y="993600"/>
              <a:ext cx="65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,6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80880" y="19382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93800" y="20811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20680" y="1649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1560" y="21463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60000" y="2075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11:39:30Z</dcterms:created>
  <dc:creator>Administrator</dc:creator>
  <dc:description/>
  <dc:language>en-US</dc:language>
  <cp:lastModifiedBy>Administrator</cp:lastModifiedBy>
  <dcterms:modified xsi:type="dcterms:W3CDTF">2015-11-04T14:02:28Z</dcterms:modified>
  <cp:revision>6</cp:revision>
  <dc:subject/>
  <dc:title>שקופית 1</dc:title>
</cp:coreProperties>
</file>